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F0D94D8-20F6-4E0E-92DB-C1B7E83611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5352255-40CA-4D15-A39F-AF329FF4A8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92FE12D-2995-46A6-9B33-7B45E99024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0F7C04A-CC9E-4D86-94DB-763AB05484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measured battery SOC is technically also a model – the battery controller reports an estimated S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4F2DC18-206B-42D8-8A2C-1580B54F17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56DDAC4-F88C-4CE8-8773-ADF2FE38D4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D81A3D6-E99A-4F08-A483-A559B34E52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5378148-09A9-4BF0-80A0-CBE5829F93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54458FE-8FD4-402F-B624-38DD33930F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0AB1095-F896-4193-968E-3C1C924FBD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5ACB551-F077-446B-AC57-D61510CF78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1B8139B-9B11-4845-B723-9C44298A71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BBF13D5-422A-45EA-8313-5B7771F979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3520C26-7472-4666-BE28-C2100A8B41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C693F67-6D26-43E7-A01E-F99636EECE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17EC-A474-4399-A9DA-E8D7E0EA2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2366-0841-47F2-A1D6-464B4CFB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6FA3-811A-4BCF-A209-B7FE80E4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F66C-4919-42C2-AABE-6C5487C0E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0966-BBDA-4220-9A8D-00A1C3E6D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031D-75B9-4347-A45C-D882C73F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F536-9557-4434-A5A7-D8ABC8E8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F7E3-E751-4A7F-A99E-525761B5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871B-E684-49B1-8736-086AD396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4948-44CD-45B1-B851-DBAB8C8F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2E23-3DE7-4D76-A752-A96E7FEC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3066-97E0-4F0C-9674-8D3EA2DD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40DC-614D-47F0-ABE9-8C4421E1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A150-3C20-4F5A-9768-7F83B098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6D8B-157A-4ABE-B5A6-7641E70C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FD5A-F2F1-4A55-9D7E-426FAE3C9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F70D-6561-4402-848E-C8C89431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94A5-1E2A-4CFC-BBD9-B5B82E41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0B16-8DF0-4A11-9683-D0F096B8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A054-52EA-4E09-B5DC-2513F1C8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7AEC-2163-423B-972D-E2689D9A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67F6-1291-4F36-8464-3732D837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CFF2-0838-48D0-AADE-C29135DE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D12F-7393-4447-BC55-1EEB038A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C864-0EC5-4F2D-9290-9DC5699167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5"/>
          <p:cNvSpPr/>
          <p:nvPr/>
        </p:nvSpPr>
        <p:spPr>
          <a:xfrm>
            <a:off x="3565440" y="6060960"/>
            <a:ext cx="47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4C1F-91F1-4A70-8F48-1F7A27CB81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ynamic Energy Storage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cture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BDC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730080" y="1359000"/>
            <a:ext cx="7696440" cy="51181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regenerative braking current, the model is very accura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del is also accurate for small current leve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730080" y="1282680"/>
            <a:ext cx="769644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omparison between simulated and recorded SOC reveals differenc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730080" y="1279440"/>
            <a:ext cx="703908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ermal data is not very dynamic, but does show agreement with the mod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1"/>
          <a:stretch/>
        </p:blipFill>
        <p:spPr>
          <a:xfrm>
            <a:off x="730080" y="1357200"/>
            <a:ext cx="709308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changes could be made in an attempt to increase model accurac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ttery internal resistance could be changed to a function of SOC and temper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ttery open circuit voltage could be changed to a function of S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 internal resistances or capacitance could be added to th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attery model provides a simple way of calculating battery performa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del accurately calculates battery current up to about 100 am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ly, battery losses are predicted to within 10% of their measured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fore, this battery model would be most appropriate for evaluations over part-load drive cycle dem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more advanced battery modeling techniques, refer to PSU’s course on battery model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776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 Based Design: Battery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Internal Resistance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2438280" y="990720"/>
            <a:ext cx="4648320" cy="3541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609480" y="4419360"/>
            <a:ext cx="8508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modeling a HV battery, we will be using a simple internal resistance model that only involves voltage, resistance, and current. Although the model is overly simple, it is effective for our mod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model calculations involve three major step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02680" y="12952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ttery losses are calculated as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 losses using the open circuit voltage and appropriate charge or discharge resi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 is calculated as the change in energy from the initial SOC based on the amount of power into or out of the battery and a defined timest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ttery temperature is then calculated using the internal losses of the battery and associated thermal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tery losses are calculated by solving for the current when power is know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6"/>
              <p:cNvSpPr txBox="1"/>
              <p:nvPr/>
            </p:nvSpPr>
            <p:spPr>
              <a:xfrm>
                <a:off x="304920" y="2743200"/>
                <a:ext cx="23857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8"/>
              <p:cNvSpPr txBox="1"/>
              <p:nvPr/>
            </p:nvSpPr>
            <p:spPr>
              <a:xfrm>
                <a:off x="228600" y="1828800"/>
                <a:ext cx="27417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de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Vo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0"/>
              <p:cNvSpPr txBox="1"/>
              <p:nvPr/>
            </p:nvSpPr>
            <p:spPr>
              <a:xfrm>
                <a:off x="4419720" y="2209680"/>
                <a:ext cx="42782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Voc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2"/>
              <p:cNvSpPr txBox="1"/>
              <p:nvPr/>
            </p:nvSpPr>
            <p:spPr>
              <a:xfrm>
                <a:off x="552600" y="4952880"/>
                <a:ext cx="3867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c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o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P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14"/>
              <p:cNvSpPr txBox="1"/>
              <p:nvPr/>
            </p:nvSpPr>
            <p:spPr>
              <a:xfrm>
                <a:off x="5867280" y="5334120"/>
                <a:ext cx="2476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oc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AutoShape 17"/>
          <p:cNvSpPr/>
          <p:nvPr/>
        </p:nvSpPr>
        <p:spPr>
          <a:xfrm>
            <a:off x="3276720" y="2286000"/>
            <a:ext cx="990360" cy="533520"/>
          </a:xfrm>
          <a:prstGeom prst="rightArrow">
            <a:avLst>
              <a:gd name="adj1" fmla="val 50000"/>
              <a:gd name="adj2" fmla="val 46407"/>
            </a:avLst>
          </a:prstGeom>
          <a:solidFill>
            <a:srgbClr val="558e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3581280" y="3657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f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9"/>
          <p:cNvSpPr/>
          <p:nvPr/>
        </p:nvSpPr>
        <p:spPr>
          <a:xfrm rot="8317200">
            <a:off x="4722480" y="320832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558e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20"/>
          <p:cNvSpPr/>
          <p:nvPr/>
        </p:nvSpPr>
        <p:spPr>
          <a:xfrm rot="8317200">
            <a:off x="3579480" y="419904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558e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ounded Rectangle 1"/>
          <p:cNvSpPr/>
          <p:nvPr/>
        </p:nvSpPr>
        <p:spPr>
          <a:xfrm>
            <a:off x="4343400" y="2075040"/>
            <a:ext cx="4419720" cy="973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ounded Rectangle 14"/>
          <p:cNvSpPr/>
          <p:nvPr/>
        </p:nvSpPr>
        <p:spPr>
          <a:xfrm>
            <a:off x="152280" y="1676520"/>
            <a:ext cx="2895840" cy="1981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ounded Rectangle 15"/>
          <p:cNvSpPr/>
          <p:nvPr/>
        </p:nvSpPr>
        <p:spPr>
          <a:xfrm>
            <a:off x="533520" y="4876920"/>
            <a:ext cx="3962160" cy="1295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tery SOC is calculated by knowing the change in battery internal energ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AutoShape 14"/>
          <p:cNvSpPr/>
          <p:nvPr/>
        </p:nvSpPr>
        <p:spPr>
          <a:xfrm rot="5400000">
            <a:off x="3768480" y="259056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558e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18"/>
              <p:cNvSpPr txBox="1"/>
              <p:nvPr/>
            </p:nvSpPr>
            <p:spPr>
              <a:xfrm>
                <a:off x="2778120" y="1752480"/>
                <a:ext cx="26319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20"/>
              <p:cNvSpPr txBox="1"/>
              <p:nvPr/>
            </p:nvSpPr>
            <p:spPr>
              <a:xfrm>
                <a:off x="2625840" y="3276720"/>
                <a:ext cx="2860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22"/>
              <p:cNvSpPr txBox="1"/>
              <p:nvPr/>
            </p:nvSpPr>
            <p:spPr>
              <a:xfrm>
                <a:off x="1523880" y="4649760"/>
                <a:ext cx="579600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O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O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6" name="AutoShape 24"/>
          <p:cNvSpPr/>
          <p:nvPr/>
        </p:nvSpPr>
        <p:spPr>
          <a:xfrm rot="5400000">
            <a:off x="3768480" y="419076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558e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tery temperature is a function of internal losses and heat remov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6"/>
          <p:cNvSpPr/>
          <p:nvPr/>
        </p:nvSpPr>
        <p:spPr>
          <a:xfrm>
            <a:off x="228600" y="17208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t generated in the battery – Heat removed from the batter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= Increase in battery stored thermal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17"/>
          <p:cNvSpPr/>
          <p:nvPr/>
        </p:nvSpPr>
        <p:spPr>
          <a:xfrm rot="5400000">
            <a:off x="4038120" y="2971800"/>
            <a:ext cx="838440" cy="685800"/>
          </a:xfrm>
          <a:prstGeom prst="rightArrow">
            <a:avLst>
              <a:gd name="adj1" fmla="val 50000"/>
              <a:gd name="adj2" fmla="val 30564"/>
            </a:avLst>
          </a:prstGeom>
          <a:solidFill>
            <a:srgbClr val="558e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8"/>
              <p:cNvSpPr txBox="1"/>
              <p:nvPr/>
            </p:nvSpPr>
            <p:spPr>
              <a:xfrm>
                <a:off x="914400" y="3962520"/>
                <a:ext cx="7148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U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rev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mb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p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v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C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from the Virginia Tech Challenge X vehicle was used for model validatio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1"/>
          <a:stretch/>
        </p:blipFill>
        <p:spPr>
          <a:xfrm>
            <a:off x="2743200" y="1495440"/>
            <a:ext cx="40086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del shows reasonable accuracy for voltage and curr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1"/>
          <a:stretch/>
        </p:blipFill>
        <p:spPr>
          <a:xfrm>
            <a:off x="4267080" y="2971800"/>
            <a:ext cx="4695840" cy="3390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"/>
          <p:cNvPicPr/>
          <p:nvPr/>
        </p:nvPicPr>
        <p:blipFill>
          <a:blip r:embed="rId2"/>
          <a:stretch/>
        </p:blipFill>
        <p:spPr>
          <a:xfrm>
            <a:off x="0" y="1542960"/>
            <a:ext cx="468648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current draw from the battery shows some model inaccurac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730080" y="1434960"/>
            <a:ext cx="769644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1:56:18Z</dcterms:created>
  <dc:creator>pkreh</dc:creator>
  <dc:description/>
  <dc:language>en-US</dc:language>
  <cp:lastModifiedBy>Beth Bezaire</cp:lastModifiedBy>
  <cp:lastPrinted>2000-12-19T20:25:35Z</cp:lastPrinted>
  <dcterms:modified xsi:type="dcterms:W3CDTF">2014-07-10T23:33:10Z</dcterms:modified>
  <cp:revision>47</cp:revision>
  <dc:subject/>
  <dc:title>Title of Presentation</dc:title>
</cp:coreProperties>
</file>