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0D30A0DB-51CA-4063-9FEF-B089BA8FF28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D8EAA5B7-4A86-49DE-B253-FB80B71BAC4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1EAEC6DF-B27A-4924-9FFD-9A778B7EFB2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EC4AE1C3-68AA-46A9-A226-E25FA4A1EBF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at measured battery SOC is technically also a model – the battery controller reports an estimated SO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943A4E63-1D97-4B97-B7D7-1F279A48F62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6C6E0EEF-8DCD-4AC2-8F41-A2B309A2F12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16545867-56FF-48FE-8200-C035940E796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0B8CD0C5-8F4C-402A-B76B-C4D09F78BD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F3F5A627-1B6F-4783-B31A-50519CF70F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73B6F90E-DD52-4A5E-864E-66854FEE7D2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7E5BFB08-5BE0-4E39-B23C-1489789A7F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4F33984B-4C3A-438C-8523-FEF999BA4C0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320F43FA-A362-4497-8B74-563D0FCCC0D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367D69B3-5073-4C43-9E79-7BCC294B613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34BE66EA-0248-4EE0-9F50-DF80D31B252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2D50-5395-4804-A5B3-BEC314BA1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B290-2205-4393-BF78-3B19F0DB4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EB74-85B5-40A1-BF30-639B8C694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DCFA-BC9D-4F4B-9033-E5CBDAD11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3644F-26EE-47ED-B023-31B3EF857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27045-0039-4B84-9401-274B394CC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02E05-B903-45B0-A85D-1CE413C72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51E65-A5AA-46F8-B109-5EA473670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9D11E-5F6A-49B2-A8E7-9889344F7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ABEB4-393D-48FC-99C1-483E8A5D2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1AB1C-C374-4E8F-BC3F-B5201465E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4BA6-8C88-4C5A-9E57-3249E01E8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B59C8-5872-4E2D-9EAE-ED6B3DF11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9433F-66F0-4924-85F0-45A5833B6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91D85-3BCF-4986-9727-31ABBC89E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CC520-08EB-4A13-A868-B5692B9DE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9F2F2-43D2-4B49-9417-205ECD104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5D60-5311-49F7-8218-BED625B27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DC84-FA20-41B6-A67D-E27DD8BC7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B2F6-38F2-448E-9D5D-BCC8C1830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3661-1EFD-41F4-A4B8-CECFBA3EA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062B-C382-43B6-85EC-183457FFF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CF2A-9DF9-483C-B632-37BA9E227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65E0-48E7-4C20-B617-71AF49CA6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533B5-CD32-467F-87F6-A381D134B99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5"/>
          <p:cNvSpPr/>
          <p:nvPr/>
        </p:nvSpPr>
        <p:spPr>
          <a:xfrm>
            <a:off x="3565440" y="6060960"/>
            <a:ext cx="47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6F87A-44EF-47C3-8361-D24BE940225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ynamic Energy Storage Syste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cture 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BDC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5" descr=""/>
          <p:cNvPicPr/>
          <p:nvPr/>
        </p:nvPicPr>
        <p:blipFill>
          <a:blip r:embed="rId1"/>
          <a:stretch/>
        </p:blipFill>
        <p:spPr>
          <a:xfrm>
            <a:off x="730080" y="1359000"/>
            <a:ext cx="7696440" cy="511812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regenerative braking current, the model is very accurat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model is also accurate for small current level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5" descr=""/>
          <p:cNvPicPr/>
          <p:nvPr/>
        </p:nvPicPr>
        <p:blipFill>
          <a:blip r:embed="rId1"/>
          <a:stretch/>
        </p:blipFill>
        <p:spPr>
          <a:xfrm>
            <a:off x="730080" y="1282680"/>
            <a:ext cx="7696440" cy="51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comparison between simulated and recorded SOC reveals differenc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5" descr=""/>
          <p:cNvPicPr/>
          <p:nvPr/>
        </p:nvPicPr>
        <p:blipFill>
          <a:blip r:embed="rId1"/>
          <a:stretch/>
        </p:blipFill>
        <p:spPr>
          <a:xfrm>
            <a:off x="730080" y="1279440"/>
            <a:ext cx="7039080" cy="51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thermal data is not very dynamic, but does show agreement with the model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Picture 9" descr=""/>
          <p:cNvPicPr/>
          <p:nvPr/>
        </p:nvPicPr>
        <p:blipFill>
          <a:blip r:embed="rId1"/>
          <a:stretch/>
        </p:blipFill>
        <p:spPr>
          <a:xfrm>
            <a:off x="730080" y="1357200"/>
            <a:ext cx="7093080" cy="51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changes could be made in an attempt to increase model accurac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ttery internal resistance could be changed to a function of SOC and temperat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ttery open circuit voltage could be changed to a function of SO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ariable internal resistances or capacitance could be added to the mod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battery model provides a simple way of calculating battery performanc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model accurately calculates battery current up to about 100 am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nerally, battery losses are predicted to within 10% of their measured val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refore, this battery model would be most appropriate for evaluations over part-load drive cycle dem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more advanced battery modeling techniques, refer to PSU’s course on battery modeling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87768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 Based Design: Battery Syste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Internal Resistance Mod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3" descr=""/>
          <p:cNvPicPr/>
          <p:nvPr/>
        </p:nvPicPr>
        <p:blipFill>
          <a:blip r:embed="rId1"/>
          <a:stretch/>
        </p:blipFill>
        <p:spPr>
          <a:xfrm>
            <a:off x="2438280" y="990720"/>
            <a:ext cx="4648320" cy="35416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609480" y="4419360"/>
            <a:ext cx="850896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modeling a HV battery, we will be using a simple internal resistance model that only involves voltage, resistance, and current. Although the model is overly simple, it is effective for our model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280" y="4568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 model calculations involve three major step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02680" y="1295280"/>
            <a:ext cx="8915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ttery losses are calculated as I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 losses using the open circuit voltage and appropriate charge or discharge resi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C is calculated as the change in energy from the initial SOC based on the amount of power into or out of the battery and a defined timeste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ttery temperature is then calculated using the internal losses of the battery and associated thermal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ttery losses are calculated by solving for the current when power is know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Object 6"/>
              <p:cNvSpPr txBox="1"/>
              <p:nvPr/>
            </p:nvSpPr>
            <p:spPr>
              <a:xfrm>
                <a:off x="304920" y="2743200"/>
                <a:ext cx="23857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oss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∗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Object 8"/>
              <p:cNvSpPr txBox="1"/>
              <p:nvPr/>
            </p:nvSpPr>
            <p:spPr>
              <a:xfrm>
                <a:off x="228600" y="1828800"/>
                <a:ext cx="274176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dea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∗</m:t>
                    </m:r>
                    <m:r>
                      <m:rPr>
                        <m:lit/>
                        <m:nor/>
                      </m:rPr>
                      <m:t xml:space="preserve">Vo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Object 10"/>
              <p:cNvSpPr txBox="1"/>
              <p:nvPr/>
            </p:nvSpPr>
            <p:spPr>
              <a:xfrm>
                <a:off x="4419720" y="2209680"/>
                <a:ext cx="42782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∗</m:t>
                    </m:r>
                    <m:r>
                      <m:rPr>
                        <m:lit/>
                        <m:nor/>
                      </m:rPr>
                      <m:t xml:space="preserve">Voc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∗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Object 12"/>
              <p:cNvSpPr txBox="1"/>
              <p:nvPr/>
            </p:nvSpPr>
            <p:spPr>
              <a:xfrm>
                <a:off x="552600" y="4952880"/>
                <a:ext cx="386712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Voc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Voc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RP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Object 14"/>
              <p:cNvSpPr txBox="1"/>
              <p:nvPr/>
            </p:nvSpPr>
            <p:spPr>
              <a:xfrm>
                <a:off x="5867280" y="5334120"/>
                <a:ext cx="24768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Voc</m:t>
                    </m:r>
                    <m:r>
                      <m:t xml:space="preserve">−</m:t>
                    </m:r>
                    <m:r>
                      <m:t xml:space="preserve">I</m:t>
                    </m:r>
                    <m:r>
                      <m:t xml:space="preserve">∗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AutoShape 17"/>
          <p:cNvSpPr/>
          <p:nvPr/>
        </p:nvSpPr>
        <p:spPr>
          <a:xfrm>
            <a:off x="3276720" y="2286000"/>
            <a:ext cx="990360" cy="533520"/>
          </a:xfrm>
          <a:prstGeom prst="rightArrow">
            <a:avLst>
              <a:gd name="adj1" fmla="val 50000"/>
              <a:gd name="adj2" fmla="val 46407"/>
            </a:avLst>
          </a:prstGeom>
          <a:solidFill>
            <a:srgbClr val="558ed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18"/>
          <p:cNvSpPr/>
          <p:nvPr/>
        </p:nvSpPr>
        <p:spPr>
          <a:xfrm>
            <a:off x="3581280" y="36576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ve for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AutoShape 19"/>
          <p:cNvSpPr/>
          <p:nvPr/>
        </p:nvSpPr>
        <p:spPr>
          <a:xfrm rot="8317200">
            <a:off x="4722480" y="320832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558ed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AutoShape 20"/>
          <p:cNvSpPr/>
          <p:nvPr/>
        </p:nvSpPr>
        <p:spPr>
          <a:xfrm rot="8317200">
            <a:off x="3579480" y="419904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558ed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ounded Rectangle 1"/>
          <p:cNvSpPr/>
          <p:nvPr/>
        </p:nvSpPr>
        <p:spPr>
          <a:xfrm>
            <a:off x="4343400" y="2075040"/>
            <a:ext cx="4419720" cy="9730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ounded Rectangle 14"/>
          <p:cNvSpPr/>
          <p:nvPr/>
        </p:nvSpPr>
        <p:spPr>
          <a:xfrm>
            <a:off x="152280" y="1676520"/>
            <a:ext cx="2895840" cy="19810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ounded Rectangle 15"/>
          <p:cNvSpPr/>
          <p:nvPr/>
        </p:nvSpPr>
        <p:spPr>
          <a:xfrm>
            <a:off x="533520" y="4876920"/>
            <a:ext cx="3962160" cy="12952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ttery SOC is calculated by knowing the change in battery internal energ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AutoShape 14"/>
          <p:cNvSpPr/>
          <p:nvPr/>
        </p:nvSpPr>
        <p:spPr>
          <a:xfrm rot="5400000">
            <a:off x="3768480" y="259056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558ed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Object 18"/>
              <p:cNvSpPr txBox="1"/>
              <p:nvPr/>
            </p:nvSpPr>
            <p:spPr>
              <a:xfrm>
                <a:off x="2778120" y="1752480"/>
                <a:ext cx="2631960" cy="6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os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3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Object 20"/>
              <p:cNvSpPr txBox="1"/>
              <p:nvPr/>
            </p:nvSpPr>
            <p:spPr>
              <a:xfrm>
                <a:off x="2625840" y="3276720"/>
                <a:ext cx="286056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t</m:t>
                        </m:r>
                      </m:sub>
                    </m:sSub>
                    <m:r>
                      <m:t xml:space="preserve">∗</m:t>
                    </m:r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Object 22"/>
              <p:cNvSpPr txBox="1"/>
              <p:nvPr/>
            </p:nvSpPr>
            <p:spPr>
              <a:xfrm>
                <a:off x="1523880" y="4649760"/>
                <a:ext cx="5796000" cy="13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O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w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O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ld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E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t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E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6" name="AutoShape 24"/>
          <p:cNvSpPr/>
          <p:nvPr/>
        </p:nvSpPr>
        <p:spPr>
          <a:xfrm rot="5400000">
            <a:off x="3768480" y="419076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558ed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ttery temperature is a function of internal losses and heat removal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16"/>
          <p:cNvSpPr/>
          <p:nvPr/>
        </p:nvSpPr>
        <p:spPr>
          <a:xfrm>
            <a:off x="228600" y="1720800"/>
            <a:ext cx="87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t generated in the battery – Heat removed from the batter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= Increase in battery stored thermal ener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AutoShape 17"/>
          <p:cNvSpPr/>
          <p:nvPr/>
        </p:nvSpPr>
        <p:spPr>
          <a:xfrm rot="5400000">
            <a:off x="4038120" y="2971800"/>
            <a:ext cx="838440" cy="685800"/>
          </a:xfrm>
          <a:prstGeom prst="rightArrow">
            <a:avLst>
              <a:gd name="adj1" fmla="val 50000"/>
              <a:gd name="adj2" fmla="val 30564"/>
            </a:avLst>
          </a:prstGeom>
          <a:solidFill>
            <a:srgbClr val="558ed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Object 18"/>
              <p:cNvSpPr txBox="1"/>
              <p:nvPr/>
            </p:nvSpPr>
            <p:spPr>
              <a:xfrm>
                <a:off x="914400" y="3962520"/>
                <a:ext cx="714852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oss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UA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prev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mb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Cp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rev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C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ta from the Virginia Tech Challenge X vehicle was used for model validation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Picture 8" descr=""/>
          <p:cNvPicPr/>
          <p:nvPr/>
        </p:nvPicPr>
        <p:blipFill>
          <a:blip r:embed="rId1"/>
          <a:stretch/>
        </p:blipFill>
        <p:spPr>
          <a:xfrm>
            <a:off x="2743200" y="1495440"/>
            <a:ext cx="4008600" cy="49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model shows reasonable accuracy for voltage and curren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11" descr=""/>
          <p:cNvPicPr/>
          <p:nvPr/>
        </p:nvPicPr>
        <p:blipFill>
          <a:blip r:embed="rId1"/>
          <a:stretch/>
        </p:blipFill>
        <p:spPr>
          <a:xfrm>
            <a:off x="4267080" y="2971800"/>
            <a:ext cx="4695840" cy="33908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0" descr=""/>
          <p:cNvPicPr/>
          <p:nvPr/>
        </p:nvPicPr>
        <p:blipFill>
          <a:blip r:embed="rId2"/>
          <a:stretch/>
        </p:blipFill>
        <p:spPr>
          <a:xfrm>
            <a:off x="0" y="1542960"/>
            <a:ext cx="468648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large current draw from the battery shows some model inaccuraci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6" descr=""/>
          <p:cNvPicPr/>
          <p:nvPr/>
        </p:nvPicPr>
        <p:blipFill>
          <a:blip r:embed="rId1"/>
          <a:stretch/>
        </p:blipFill>
        <p:spPr>
          <a:xfrm>
            <a:off x="730080" y="1434960"/>
            <a:ext cx="7696440" cy="51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1:56:18Z</dcterms:created>
  <dc:creator>pkreh</dc:creator>
  <dc:description/>
  <dc:language>en-US</dc:language>
  <cp:lastModifiedBy>Beth Bezaire</cp:lastModifiedBy>
  <cp:lastPrinted>2000-12-19T20:25:35Z</cp:lastPrinted>
  <dcterms:modified xsi:type="dcterms:W3CDTF">2014-07-10T23:33:10Z</dcterms:modified>
  <cp:revision>47</cp:revision>
  <dc:subject/>
  <dc:title>Title of Presentation</dc:title>
</cp:coreProperties>
</file>